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45C76-B066-4380-8199-40BF6D41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6452E-CB4E-451C-A159-C4540059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EADFD-F838-4A51-BFDA-DEBAA51D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E8263-7751-45B4-AE63-21C25D68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5EB7-76BF-4C2D-9114-B21D5AC1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8A2D-2CE1-4668-8093-2A041AE2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2FF7-E662-4ED6-8A82-EFE60683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F687-D0A3-4B9A-A50F-3F82512B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EE09-FC40-4224-B8D0-2C37C8F8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02BC-61A1-412F-B0FB-0ED7CE64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9C5E-1CDE-4889-91E1-3AAD98AE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F7FA7-D8B1-44E5-91A8-C5841DC7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3E2B-728D-4521-ABF4-23E74CCA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0521-8A92-4315-88A9-4BC76C9C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B00C-8294-4786-9CDE-8A046BAE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A8EF-BCF3-4B18-A904-0FAAF990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DADA-380D-4801-B538-C11BF05D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C919-A3C1-445B-9F30-F8AA5F31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7FB52-252F-4CEF-892F-739461DF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8BFD0-2345-4925-8E4A-F1DAABC8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E9CD-30EF-4796-B940-BDB86B83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255CB-3EBB-43AF-8BF4-07B154CC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D768C-1913-4144-AB80-F2FB57C2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E8023-6BC8-4981-80FB-EA8ED16D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8D48-A099-41A6-9D7C-E66D55D068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84B9-E7FC-4072-AFBF-B08F9CDD62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Me llamo __________ Clase 8 Nv</a:t>
            </a:r>
            <a:br>
              <a:rPr sz="3600"/>
            </a:b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La fecha es el 15 de noviembre del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0033"/>
                </a:solidFill>
                <a:latin typeface="Arial"/>
              </a:rPr>
              <a:t>Propósito # 15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la familia de Jos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0033"/>
                </a:solidFill>
                <a:latin typeface="Arial"/>
              </a:rPr>
              <a:t>Actividad Inici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as personas hay en t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n qué escuela estudi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estudias en la escuel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352680"/>
            <a:ext cx="807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ay ______ personas en mi fami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3886200"/>
            <a:ext cx="807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omos mi ________, mi _______, mi _______ y 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495680"/>
            <a:ext cx="807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studio en TR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5105520"/>
            <a:ext cx="8077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studio </a:t>
            </a:r>
            <a:r>
              <a:rPr b="1" i="1" lang="es-ES_tradnl" sz="2400" spc="-1" strike="noStrike">
                <a:solidFill>
                  <a:srgbClr val="0000ff"/>
                </a:solidFill>
                <a:latin typeface="Arial"/>
              </a:rPr>
              <a:t>(ingles, matemáticas, historia, ciencias, educación física, español y a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5943600"/>
            <a:ext cx="807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rminemos ejercicio pagina 141 en tu 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Repaso de la Tarea #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336680"/>
            <a:ext cx="899172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ORKBOOK p. 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Arial"/>
              </a:rPr>
              <a:t>Durante las vacacio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Respond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ónde estudian Ana y Carm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quieren ellas aprender bi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n qué país nadan en el Océano Pacif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n quiénes  hablan en la play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n qué país nadan en la pisci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do juegan al tenis Juan y sus amig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hacen los jóvenes en la fies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Por qué caminan las dos chicas por la ciudad por la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514600"/>
            <a:ext cx="807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na y Carmen estudian en la univers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2971800"/>
            <a:ext cx="807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las quieren aprender bien el españ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3352680"/>
            <a:ext cx="807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n México, nadan en el Océano Paci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809880"/>
            <a:ext cx="807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ablan con jóvenes mexicanos en la play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4267080"/>
            <a:ext cx="830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n Venezuela nadan en la pisc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4648320"/>
            <a:ext cx="830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Juan y sus amigos juegan tenis durante las vac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5105520"/>
            <a:ext cx="830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Juan toca la guitarra y los jóvenes cantan y bai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5562720"/>
            <a:ext cx="83059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s dos chicas caminan por la ciudad por la mañana porque hace menos c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 Listen; using the family tree, write the name of the person I am talking ab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1752480"/>
            <a:ext cx="160020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1752480"/>
            <a:ext cx="160020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23623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276720"/>
            <a:ext cx="160020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3276720"/>
            <a:ext cx="160020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3276720"/>
            <a:ext cx="160020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3276720"/>
            <a:ext cx="160020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4876920"/>
            <a:ext cx="114300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4876920"/>
            <a:ext cx="114300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4876920"/>
            <a:ext cx="114300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4876920"/>
            <a:ext cx="114300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924680" y="4876920"/>
            <a:ext cx="114300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21080" y="4876920"/>
            <a:ext cx="11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fr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 añ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3809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60680" y="4876920"/>
            <a:ext cx="11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5 añ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5800" y="4876920"/>
            <a:ext cx="11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0 añ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65240" y="3276720"/>
            <a:ext cx="11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o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2 añ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98960" y="3276720"/>
            <a:ext cx="11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g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8 añ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4680" y="1752480"/>
            <a:ext cx="11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79 añ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71000" y="1752480"/>
            <a:ext cx="12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o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74 añ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42640" y="3276720"/>
            <a:ext cx="120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44 añ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3276720"/>
            <a:ext cx="130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e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ez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0 añ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02240" y="4876920"/>
            <a:ext cx="10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s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 añ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9560" y="4876920"/>
            <a:ext cx="11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4 añ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madre de José Santos Ramos 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adre de Antonio Santos Ramos 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esposo de Teresa Vega de Santos 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hija de Mercedes Pérez de Santos 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buelo de Pedro Santos Vega 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rimo de Alfredo Santos Vega 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tía de Cristina Santos Pérez 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hermana de Roberto Santos Pérez 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12920" y="1143000"/>
            <a:ext cx="39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armen Ramos de Sa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11480" y="18288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duardo Santos Dí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11480" y="251460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ntonio Santos R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11480" y="33526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ristina Santos P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63760" y="396252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duardo Santos Dí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18840" y="480060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Roberto Santos P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95160" y="548640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eresa Vega de Sa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94080" y="624852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ristina Santos P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-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 familia española;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pia y respo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loria Flores López is going to marry Martín Vega Delgado. What will her complete married name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men Dumani de Ycaza and Andres Ycaza Gómez had a baby girl named Luisa. What is that baby’s complete n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rnesto Robles Matute and Teresa Suárez de Robles had a baby boy named Daniel. What is the baby’s complete n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umberto Ávila Mora is going to marry Isabel Cano Rivera. What will be her complete married n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66600" y="19810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Gloria Flores de V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35520" y="327672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uisa Ycaza Dum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11840" y="464832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aniel Robles Suá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10400" y="609588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Isabel Cano Ávi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Ejercici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ctura, pt. 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142-143, en voz 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Comprension de Lectu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9-15) p. 14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your notebook and handouts on top of the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actica de Conversac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-12) p. 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3276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Tarea #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1:15:00Z</dcterms:created>
  <dc:creator>Helen Zumaeta</dc:creator>
  <dc:description/>
  <dc:language>en-US</dc:language>
  <cp:lastModifiedBy>NYCDOE</cp:lastModifiedBy>
  <dcterms:modified xsi:type="dcterms:W3CDTF">2011-11-15T14:02:23Z</dcterms:modified>
  <cp:revision>5</cp:revision>
  <dc:subject/>
  <dc:title>Me llamo __________ Clase 10 NM La fecha es el 5 de octubre del 2011</dc:title>
</cp:coreProperties>
</file>